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7C3C-B1B5-43FF-B2CD-E38A9E43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5DF7-760E-432F-BBE9-F187701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DE0F-7432-49E7-878B-6C036CFF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D031-13FB-4241-BE71-115A4312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9661-474D-4BAB-9E38-B4734D7A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86AA-CB1C-4520-903C-0579E17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6B21-E4D0-4822-8032-FBB95A88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FFE4-75FC-4985-814A-D5AC9C3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2C93-5EDF-4D6F-98F7-E3DE0DD9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99C9-59B6-4554-9BB9-7C986F7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FFE-E3DB-4CCD-A719-FFCA0D06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743C-EFE7-43DB-840B-9C1522C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A1BE-D02F-41BE-BF07-94C1FC8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59A0-AD28-49E1-A238-7C8EAAF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49BD-F3B3-49B3-A290-63DF55F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B44-E6D8-4A0B-AF58-085B4F3E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3F39-5406-4124-BC8C-A33D54AF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8E89-A4AA-4985-8D55-E41133AD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622E-0FBB-4C0C-B1B7-CE7C89C7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79AC-CCBE-466F-962D-4A00DCB9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D7F6-F43D-4674-AA4C-2577B1DE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5338-BD5D-4C26-9E95-78BC12F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DE75-3794-4804-80ED-E6A7C7E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3A12-42EA-4CB5-8F36-FE0865E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54A-F518-4F6C-9A1B-DA09D2FE2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3FD-DC84-47B9-84BD-B1A07D307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istoryforkids.org/learn/medieval/religion/" TargetMode="External"/><Relationship Id="rId4" Type="http://schemas.openxmlformats.org/officeDocument/2006/relationships/hyperlink" Target="http://www.historyforkids.org/learn/medieval/religion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ake A Close Loo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ing and contrasting medieval and Renaissance 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donna and Ch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4876920"/>
            <a:ext cx="396216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"The Madonna of Seggiolo," by Raphael.. IRC. 2005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Discovery Education. 17 May 2009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http://streaming.discoveryeducation.com/&gt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Cimabue"/>
          <p:cNvPicPr/>
          <p:nvPr/>
        </p:nvPicPr>
        <p:blipFill>
          <a:blip r:embed="rId2"/>
          <a:stretch/>
        </p:blipFill>
        <p:spPr>
          <a:xfrm>
            <a:off x="457200" y="1371600"/>
            <a:ext cx="2390760" cy="41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5486400"/>
            <a:ext cx="381024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Madonnna and Child,” by Cimabue. 17 May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historyforkids.org</a:t>
            </a:r>
            <a:r>
              <a:rPr b="0" lang="en-US" sz="1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learn/medieval/religion/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More Pain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5029200"/>
            <a:ext cx="2743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"St. Peter and two saints," a French fresco.. IRC. 2005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Discovery Education. 17 May 200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http://streaming.discoveryeducation.com/&gt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51055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"The Stoning of St. Stephen" by Georgio Vasari.. IRC. 2005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Discovery Education. 17 May 2009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http://streaming.discoveryeducation.com/&gt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06:00Z</dcterms:created>
  <dc:creator>Roseann Bayer</dc:creator>
  <dc:description/>
  <dc:language>en-US</dc:language>
  <cp:lastModifiedBy>Roseann Bayer</cp:lastModifiedBy>
  <dcterms:modified xsi:type="dcterms:W3CDTF">2009-05-18T02:23:23Z</dcterms:modified>
  <cp:revision>7</cp:revision>
  <dc:subject/>
  <dc:title>Slide 1</dc:title>
</cp:coreProperties>
</file>